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2A9-F43C-432C-A35A-E12EE11C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4B6-B322-4883-A2E6-5DBCC78A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35B-FC8B-47A1-95C3-A6BDCE88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C97-1E54-4D28-ACA2-9D20CE9F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4ECF-6F46-4F21-A7E4-C6A6ABAB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4EB0-640E-4AD1-8968-E085BD12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B80-5738-4962-BEE4-2953BAA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BD7-98F2-47EC-B340-ED61E584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1ED-4E5B-4A2F-A3A0-110606D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7BB-5484-400B-9354-8392B89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CFBA-C82D-4076-9734-C7348E2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1BF-7065-4710-A9CA-7F2D51FB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E20C-880D-429C-9899-58379D3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505-0888-4BA2-9A7B-6857F4CA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8027-385F-4010-8B4A-0649D795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852-9735-40EB-A3C9-EB26FC07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8B5-F04C-4E93-BA7D-88CE3F97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834-9809-4F9C-83A8-3B42B06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610-6E47-464E-9689-00CC4E90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58B-4F2E-4559-85BE-06483EED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B35-9F06-4AAB-A0D9-10E22A53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0BE-3FAF-45B3-8238-1EE7ADB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228-7398-4D32-9BB9-E704F7B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FF3-4D7E-4436-BD02-D7F3ADF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5486-0947-4B50-934C-04A8EC8DDF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D382-5BA1-454A-BBE4-5450290B19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the motion of a bowling ball on a c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d explain all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 and attempt some “magic” tri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and explain all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4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Mass vs. Weight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the difference between mass an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normal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Ne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562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 113 #55, 57, 58, 59, 63,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572000"/>
            <a:ext cx="8534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en you go to the moon, what changes mass or weight?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y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is your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mass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on the mo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as that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what it is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not sure, but  I think it’s less than it is on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9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ass vs. Weight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ss of an object remains constant no matter the location of 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ight of an object depends upon the gravitational field that object is loc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 person’s mass is the same on earth as it is on the moon. A person’s weight on the moon is 1/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what it is on ear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e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force due to a gravitational pu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ight of an object on Earth can be found us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95480" y="5410080"/>
                <a:ext cx="2286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eight and Normal Force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avitational pull of the earth acts downward on all obje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ever, the surface of the earth pushes back upward with an equal amount of force (most of the tim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ormal For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A force perpendicular (normal) to the contact surf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 The ground pushing back up on your feet. The wall pushing back against your h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t Force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600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066680"/>
            <a:ext cx="82296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Net For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e vector sum of all forces acting on an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et force will cause a change in an objects state of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net force will cause no chan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 at rest has zero net force acting on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 moving at constant speed in a straight line has zero net force acting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n-zero net force will cause an object to speed up, slow down, or change dir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l force is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always counter acts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is always directed upw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acts perpendicular to any contact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rce that causes objects to change their state of 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weight of a person with a mass of 70kg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et force acting on a person that has a mass of 70kg when standing on the ground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27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ormal force acting on a 70kg person  when standing on the ground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3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hat is the normal force acting on a 70kg person in free fall after jumping out of an airplane? What is the net force acting on him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 , 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, 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, 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, 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4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3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</a:t>
            </a: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Intro to Newton and Inertia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28600" y="12189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inertia and describe examples of iner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30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k Problems p112 #41, 42, 43, 5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8098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happens when you’re crazy school bus driver suddenly slams on the brakes to stop for a student that they almost drove past? Why does this occur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What is the net force acting on a 70kg person jogging at a constant speed of 3m/s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4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7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48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elephone Pol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238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working for the telephone company putting up new poles. The pole you are putting up now has one wire headed 20° W of N with 2200N of tension. It has another wire headed directly south with 2400N of tension. Your job is to determine much tension and in what direction should a support wire to the ground be placed so that there is no net force acting on the po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481880" y="2133720"/>
            <a:ext cx="181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5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Net Force and Free body diagrams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 free body vector dia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vector addition rules to find the magnitude and direction net fo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5867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Net Force” handout due tomo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572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weight of a 1kg wood block? What is its ma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ight of a 1kg wood block? What is its mas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5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N, 1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N, 1k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kg, 10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kg, 1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2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63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 wood block sitting on a t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all forces acting on the blo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a block moving at constant speed look any differ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1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24080" y="990720"/>
            <a:ext cx="4405320" cy="2286000"/>
            <a:chOff x="2224080" y="990720"/>
            <a:chExt cx="4405320" cy="2286000"/>
          </a:xfrm>
        </p:grpSpPr>
        <p:sp>
          <p:nvSpPr>
            <p:cNvPr id="270" name=""/>
            <p:cNvSpPr/>
            <p:nvPr/>
          </p:nvSpPr>
          <p:spPr>
            <a:xfrm>
              <a:off x="4038480" y="1828800"/>
              <a:ext cx="990720" cy="609480"/>
            </a:xfrm>
            <a:prstGeom prst="rect">
              <a:avLst/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72000" y="2438280"/>
              <a:ext cx="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4572000" y="99072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5320" y="12952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48320" y="26668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29200" y="2133720"/>
              <a:ext cx="12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4120" y="16002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 12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276720" y="213372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24080" y="190512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 7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819520" y="3657600"/>
            <a:ext cx="3962160" cy="2819520"/>
            <a:chOff x="2819520" y="3657600"/>
            <a:chExt cx="3962160" cy="2819520"/>
          </a:xfrm>
        </p:grpSpPr>
        <p:sp>
          <p:nvSpPr>
            <p:cNvPr id="280" name=""/>
            <p:cNvSpPr/>
            <p:nvPr/>
          </p:nvSpPr>
          <p:spPr>
            <a:xfrm>
              <a:off x="4038480" y="4572000"/>
              <a:ext cx="990720" cy="609480"/>
            </a:xfrm>
            <a:prstGeom prst="rect">
              <a:avLst/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43560" y="365760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0" y="5181480"/>
              <a:ext cx="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9200" y="487692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657600" y="4724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95120" y="510552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8320" y="396252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0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57150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3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95480" y="5181480"/>
              <a:ext cx="106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2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952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5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3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6400" y="49528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=15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3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ne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 4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18288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572000" y="9903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1295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21337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16002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396252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4267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32767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49672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57800" y="38862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3428640" y="320004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504960" y="4267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45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5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22860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657600" y="1371240"/>
            <a:ext cx="914400" cy="1219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16765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2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2000" y="144756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167652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2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00400" y="25909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1337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2971800"/>
            <a:ext cx="70866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to x and 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 x components and 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548640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72000" y="464796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3581280" y="4647960"/>
            <a:ext cx="91440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6095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Free Body Diagram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6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1628640"/>
            <a:ext cx="99036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71840" y="1933560"/>
            <a:ext cx="9907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22860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1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481640" y="775800"/>
            <a:ext cx="990360" cy="1143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0954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15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193356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117144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3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6920" y="3733920"/>
            <a:ext cx="9903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900080" y="2895120"/>
            <a:ext cx="990720" cy="1143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914400" y="4052880"/>
            <a:ext cx="985680" cy="4428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3657600"/>
            <a:ext cx="9903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781680" y="297180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3600" y="396252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5710320"/>
            <a:ext cx="9907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619520" y="503856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733920" y="6014880"/>
            <a:ext cx="83808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733920" y="5143680"/>
            <a:ext cx="8380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5200" y="494820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5638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Lesson #26</a:t>
            </a:r>
            <a:br>
              <a:rPr sz="2400"/>
            </a:b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Topic: Lab: Net force and angles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 the magnitude and direction of an unknown force to create zero net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029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“Ch 4 Study Guide” due Fr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365760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Lab Ta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Predict the magnitude and direction of the unknown force such that there will be no net force acting on the ring. (The peg is in the center of the ring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Laws of Moti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Newton developed his laws of motion in the mid to late 1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by the time he was 24 years o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laws and ideas were the creation of physics and calcul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laws explain and predict motion for all objects; from sub atomic particles to the stars and galax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now studying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bjects move rather tha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y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18440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sk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14240" y="1184400"/>
            <a:ext cx="2514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0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N @ 9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45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315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N @ 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N @ 27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N @ 0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N @ 155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110808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magnitude and direction of the third unknown force that will create zero net for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19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washer = 0.5 New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18440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sk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14240" y="91440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N @ 0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N @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18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45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315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N @ 97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N @ 20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N @ 16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N @ 92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N @ 349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990720"/>
            <a:ext cx="335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nd the magnitude and direction of the fourth unknown force that will create zero net for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19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 washer = 0.5 Newt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elephone Pol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 your telephone pole from an aerial view and all of the forces acting on the po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all your work in calculating where to put the support w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how you explained your solution to your boss when he questioned your decision on where to put the w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First Law (Law of Inertia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bject at rest will remain at rest and an object in motion will remain in motion in a straight line with constant speed unless acted on by a net for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Books on a bus seat will remain in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Dishes on a table will remain at r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Your coffee mug spills in your car as you go around a sharp turn at constant sp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ich of the following is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ls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straight line will remain in a straigh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at rest will remain at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curved path will remain moving in a curved p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ject moving in a curved path must have a force acting on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6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and empty wagon and observe its resistance to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the same wagon with your partner sitting in it and observe its resistance to m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the empty wagon and observe its resistance to stop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p the wagon with a partner in it and observe its resistance to stop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ton’s First Law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ert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tendency for all objects with mass to resist a change in their state of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is the measure of inert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massive an object, the more it will resist a change in its mo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or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 push or a pull required to change an objects motion. Measured in units of Newtons (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ich of the following has the most inertia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TPChart"/>
          <p:cNvGraphicFramePr/>
          <p:nvPr/>
        </p:nvGraphicFramePr>
        <p:xfrm>
          <a:off x="4267080" y="1650960"/>
          <a:ext cx="48117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50960"/>
                    <a:ext cx="48117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70kg person running at 5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0.02kg bullet flying at 450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300kg rhino charging at 3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2000kg elephant taking a n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8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79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f8a500"/>
                </a:gs>
                <a:gs pos="100000">
                  <a:srgbClr val="8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your Mass (in kg) and Weight (in lbs) from the scale in the front of the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these two numb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mass and weigh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ey mean the same th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Network User</cp:lastModifiedBy>
  <dcterms:modified xsi:type="dcterms:W3CDTF">2008-07-10T13:43:57Z</dcterms:modified>
  <cp:revision>58</cp:revision>
  <dc:subject/>
  <dc:title>Lesson #1 8/29/06 </dc:title>
</cp:coreProperties>
</file>